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562334-3CB8-4AAF-BCCE-7CBEC1B1D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462E8D-A0D9-49E8-BC20-F7CC12002B7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A6D-022E-4ADC-94CB-05EA372F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557-C209-4D20-8FA0-042D93C8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B57-C224-4CAE-A68B-0F20997F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08F-9FFA-4091-BFDB-16844E4D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84EF-C02C-4AB8-BADE-A48CEAFA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AFF2-2784-4212-A1AA-8305FC1D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4BCA-8D8D-4418-A870-D442709D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9A39-8394-4B74-8863-2012242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EC66-8283-447A-A3F3-AA247CB9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E3AA-76E0-474A-8257-9EB2059C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0F25-4FB9-4DA7-AC1E-D55A0DAE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77B-6F28-463D-8D07-93522D43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03CC-D3AC-4137-8FA7-01B3C4D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C91E-D913-4D0C-8F59-5902978E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B758-42AB-458F-A4DC-9F2EE888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7702-387C-4397-BBFA-3AB19047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6000-0399-4AD2-BF78-B1EB4D07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FF697-E6CC-4B67-B211-CD3CCBCB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9A6E-682B-4D2E-B909-034D7316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8FE7-C746-45B6-90B0-11D35A8B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A46D8-D99D-4642-BEED-89AF4590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2EC8-D001-476D-8A35-C51BD7F4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D24-1730-4413-A3FC-E832A549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CA0D-B083-4EA7-AEC7-7A1ACBA6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6B9F-1FB7-460B-AD66-084E652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8371-9202-4898-BD72-E107CBB7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1036-6273-4C04-8851-BB654B89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0F15-7A31-4D01-AB7D-05D5A3D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80B5-210D-4B6C-B92B-C575FFB0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D7C3-EEF2-46A6-97C8-66DABBA0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81C-8C77-444F-83FD-245027FD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82C-0184-4CC6-87C9-134B6A56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8D7-9515-4FF2-9DE7-5022D96B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8DE-B656-494A-B034-11DA549E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CF8-3D16-4D8E-811C-CA66C7E8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B96-7D7B-4473-9A4E-C6A25D3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605B6F-7C1A-40DA-A892-E5D782285FF8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3F4503-9270-424C-8D8F-197BB1D46EF7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F002DA-72A1-43F5-A962-7A73FA74C719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 rot="19140000">
            <a:off x="740160" y="1758960"/>
            <a:ext cx="5648400" cy="969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2060"/>
                </a:solidFill>
                <a:latin typeface="Franklin Gothic Medium"/>
              </a:rPr>
              <a:t>Организация дистанционного обучения в ДОУ: проблемы и возможности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4212000" y="6058080"/>
            <a:ext cx="223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ож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076000" y="4293000"/>
            <a:ext cx="3912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Мальцева О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МБДОУ «Детский сад №14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Модели обучения:</a:t>
            </a: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Обучение в режиме онлайн;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Дистанционное обучение через интерактивные учебные материалы;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Самостоятельная работа родителей с детьми на основе обратной связи через сайт и т.д.;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Участие в организованных флеш-мобах, фестивалях и  в др. разработанных  коллективом д/сада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Участие в конкурсах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</a:rPr>
              <a:t>Работа в группах</a:t>
            </a:r>
            <a:endParaRPr b="1" lang="ru-RU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еимущества дистанционного обучения :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1.Возможность установления оптимального режима обучения, с учетом особенностей ребенка;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2.Родители сами определяют, в какое время ребенку удобнее занимается, какой промежуток дня наиболее продуктивен для занятий;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3.Возможность контролировать круг общения ребенка;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4.Индивидуальный подход к ребенку, учет его особенностей как психических, так и физических;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5.Ребенок не «привязан» к определенному месту, он может свободно обучаться в любой точке мира. Основное условие – наличие ПК и доступа к интернету;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6.Дистанционное обучение имеет под собой хороший методический фундамент – видео- и аудио-лекции, тесты, задания и т.д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</a:rPr>
              <a:t>Недостатки дистанционного обучения :</a:t>
            </a:r>
            <a:endParaRPr b="1" lang="ru-RU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1.Максимальное участие родителей;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2.Нет авторитета воспитателя; 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3.Не все имеют возможность получения дистанционного обучения;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4.Отсутствие общения со сверстниками. 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5.В виду особенностей дистанционного обучения, детям приходится много времени проводить за компьютер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9640" y="5518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0000"/>
                </a:solidFill>
                <a:latin typeface="Times New Roman"/>
              </a:rPr>
              <a:t>Как сделать дистанционное обучение эффективным?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1.Составить расписание онлайн занятий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2. Вовлекайте ребенка постепенно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3.Направляйте, но не указывайте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ПРАВЛЕНИЯ: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1.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Задания для детей (для совместного выполнения их с родителями) </a:t>
            </a: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2.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онсультации и рекомендации для родителей для повышения их педагогической грамотности</a:t>
            </a: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7640" y="116640"/>
            <a:ext cx="787608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пецифик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Дошкольник  не может самостоятельно действовать с техническими условиями. Ему необходима помощь взрослого. Таким образом педагог взаимодействует с системой ПЕДАГОГ-РОДИТЕЛЬ-РЕБЕНОК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Родители могут не включаться в процесс дистанционного обучения. Таким образом педагогу необходимо минимизировать или ограничить помощь родителя  только вопросами тех. поддержки. В ином случае  необходимо заинтересовать материалом или формой подачи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убликуемые задания, уроки, мастер-классы должны быть максимально легкими для воспроизведения. Мы не усложняем жизнь родителям, мы помогаем!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лезно делать паузы. Родитель должен чувствовать себя комфортно, но не быть перегруженным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Мы просим! И ждем обратную связь!  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7640" y="116640"/>
            <a:ext cx="787608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пецифик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Скругленный прямоугольник 1"/>
          <p:cNvSpPr/>
          <p:nvPr/>
        </p:nvSpPr>
        <p:spPr>
          <a:xfrm>
            <a:off x="611640" y="1392840"/>
            <a:ext cx="8208720" cy="261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506e9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Мы не требу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Мы благодарны за обратную связ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ля родителей 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комендации о создании в домашних условиях среды, способствующей развитию ребенка, укреплению его здоровья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Советы специалистов по воспитанию и обучению детей в условиях семьи по актуальным темам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Ссылки на полезные ресурсы в сети Интернет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нформация о изучаемом содержании дошкольного образования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овости и анонсы предстоящих видео- семинаров для родителей, архивные материалы прошедших мероприятий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Для де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400" spc="-1" strike="noStrike">
                <a:solidFill>
                  <a:srgbClr val="002060"/>
                </a:solidFill>
                <a:latin typeface="Times New Roman"/>
              </a:rPr>
              <a:t>Содержательные подборки различных детско-взрослых активностей по темам недели, по направлениям детского развития.</a:t>
            </a:r>
            <a:endParaRPr b="1" lang="ru-RU" sz="3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3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3400" spc="-1" strike="noStrike">
                <a:solidFill>
                  <a:srgbClr val="002060"/>
                </a:solidFill>
                <a:latin typeface="Times New Roman"/>
              </a:rPr>
              <a:t>Информация о проводимых конкурсах, образовательных акциях и материалы по результатам их проведения. </a:t>
            </a:r>
            <a:endParaRPr b="1" lang="ru-RU" sz="3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3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3400" spc="-1" strike="noStrike">
                <a:solidFill>
                  <a:srgbClr val="002060"/>
                </a:solidFill>
                <a:latin typeface="Times New Roman"/>
              </a:rPr>
              <a:t>Выставки детских творческих работ. </a:t>
            </a:r>
            <a:endParaRPr b="1" lang="ru-RU" sz="3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лан работы: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1.Ознакомление с нормативно-правовым обеспечением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2.Основные понятия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3.Плюсы и минусы дистанционного обучения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4. Деятельность педагога в системе дистанционного обучения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5. Практические советы проведения занятий дистанционного обучения в режиме реального времени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6.Тест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7. Рефлексия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труктура на образовательном ресурсе: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1.По принципу адресного соответствия возрасту;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2. По основным направлениям развития ребенка или видам деятельности;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3.Блоками, в соответствии с традиционными для всего детского сада событиями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уществуют два вида режима: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Offline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- местонахождение и время не является существенным, так как все взаимодействие организовывается в отложенном режиме;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Online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– обучающийся с родителем (законным представителем) и педагог находится у автоматизированного рабочего места.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Дистанционное занятие в режим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offline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выкладывается в методическую копилку Виртуального детского сада (электронный ресурс) и заказчик (родитель (законный представитель) обучающегося) может воспользоваться им в любое удобное для себя время самостоятельно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Дистанционное занятие в режим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online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проводится по заранее составленному расписанию, согласованному с заказчиком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ыстроить индивидуальный образовательный маршрут для каждого ребенка;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азработать конспекты занятий и подготовить демонстрационный и раздаточный материал к занятиям;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рганизовать щадящий режим обучения, нормируя количество времени, проводимого за компьютером;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азработать и осуществить социальную программу работы с семьей, обязательное включение родителей в процесс обучения ребенка, выработка совместной политики общения и готовность педагога в любой момент оказать педагогическую помощь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Методические рекомендации делятся на два типа: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ндивидуальные - в рекомендациях педагог прописывает в чем необходимо поупражнять или какие знания и навыки необходимо закрепить ребенку для проведения следующего занятия, и выкладывает их в личный кабинет заказчика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бщие – рекомендации по предварительной работе к следующему занятию. Размещаются в методической копилке Виртуального детского сада вместе с конспектом и дистанционным занятием в режиме offline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нципы построения дистанционного образования дошкольников: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 центре – ребенок, его познавательная деятельность, а не сам предмет образовательной области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зрослый – тьютор, направляющий деятельность ребенка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Технические советы: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рисылая задания на сайт, придерживайтесь следующей инструкции: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Текст должен быть кратким и четким в формате типа Колибри. 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дкрепляйте тексты картинками, иллюстрациями, схемами (лучше в едином стиле)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казывайте ссылки на видеофайлы, ролики, презентации 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е шлите все подряд. Пришлите сначала материал по одной теме (например математика), а следующим письмом другое задание (по другому виду деятельности или теме)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2"/>
          <p:cNvSpPr/>
          <p:nvPr/>
        </p:nvSpPr>
        <p:spPr>
          <a:xfrm>
            <a:off x="1331640" y="0"/>
            <a:ext cx="66963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</a:pPr>
            <a:r>
              <a:rPr b="1" lang="ru-RU" sz="4000" spc="-1" strike="noStrike">
                <a:solidFill>
                  <a:srgbClr val="4472c4"/>
                </a:solidFill>
                <a:latin typeface="Calibri"/>
                <a:ea typeface="Calibri"/>
              </a:rPr>
              <a:t>Рефлексивный экр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1"/>
          <a:srcRect l="0" t="0" r="0" b="15197"/>
          <a:stretch/>
        </p:blipFill>
        <p:spPr>
          <a:xfrm>
            <a:off x="1475640" y="624960"/>
            <a:ext cx="6408360" cy="620100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4"/>
          <p:cNvSpPr/>
          <p:nvPr/>
        </p:nvSpPr>
        <p:spPr>
          <a:xfrm>
            <a:off x="2286000" y="1901160"/>
            <a:ext cx="457164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узна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яла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чувствовала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иобре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хоте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640" y="877320"/>
            <a:ext cx="7948080" cy="39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Благодарю </a:t>
            </a:r>
            <a:endParaRPr b="1" lang="ru-RU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за </a:t>
            </a:r>
            <a:endParaRPr b="1" lang="ru-RU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внимание !!!</a:t>
            </a:r>
            <a:endParaRPr b="1" lang="ru-RU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Franklin Gothic Book"/>
              </a:rPr>
              <a:t>Нормативные основы деятельности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едеральный закон РФ от 29 декабря 2012 года № 273-ФЗ «Об образовании в Российской Федерации»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риказ Министерства образования и науки Российской Федерации от 23 августа 2017 года № 816 «Об утверждении Порядка применения организациями, осуществляющими образовательную деятельность, электронного обучения, дистанционных образовательных технологий при реализации образовательных программ»;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Franklin Gothic Book"/>
              </a:rPr>
              <a:t>Нормативные основы деятельности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Учет письма Министерства образования и науки Российской Федерации от 28 августа 2015 года N АК-2563/05 «О методических рекомендациях»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Учет письма Министерства образования и науки Российской Федерации от 21 апреля 2015 года № ВК-1013/06 «О направлении методических рекомендаций по реализации дополнительных профессиональных программ (с Методическими рекомендациями по реализации дополнительных профессиональных программ с использованием дистанционных технологий, электронного обучения и в сетевой форме)»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Franklin Gothic Book"/>
              </a:rPr>
              <a:t>Нормативные основы деятельности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516d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ребования Федерального закона от 27 июля 2006 г. №152-ФЗ «О персональных данных»;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516d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ребования Федерального закона от 27 июля 2006 г. №149-ФЗ «Об информации, информационных технологиях и о защите информации» (с изменениями и дополнениями)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истанционное образование детей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– 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образование на расстоянии, без непосредственного контакта с педагогом и другими детьми, посредством информационно-коммуникативных технологий, которое дает возможность самостоятельной работы родителей и их детей по усвоению образовательных программ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Основная цель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1" lang="ru-RU" sz="4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освоение и закрепление пройденного материала в процессе выполнения творческого задания</a:t>
            </a:r>
            <a:endParaRPr b="1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8964000" cy="65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уть дистанционного обучения:</a:t>
            </a:r>
            <a:endParaRPr b="1" lang="ru-RU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заключается в том, что ребенок получает возможность смотреть видео-занятия, изучать учебный материал, а также находясь дома, получить и выполнить задания. В заключении ребенок может выполнить творческую работу, поучаствовать в конкурсе.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инципы применения ДОТ:</a:t>
            </a: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ринцип доступности;</a:t>
            </a:r>
            <a:endParaRPr b="1" lang="ru-RU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ринцип персонализации;</a:t>
            </a:r>
            <a:endParaRPr b="1" lang="ru-RU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ринцип интерактивности;</a:t>
            </a:r>
            <a:endParaRPr b="1" lang="ru-RU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ринцип гибкости.</a:t>
            </a:r>
            <a:endParaRPr b="1" lang="ru-RU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p14:dur="250"/>
    </mc:Choice>
    <mc:Fallback>
      <p:transition/>
    </mc:Fallback>
  </mc:AlternateContent>
</p:sld>
</file>

<file path=ppt/theme/theme1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827</TotalTime>
  <Application>LibreOffice/7.4.7.2$Linux_X86_64 LibreOffice_project/40$Build-2</Application>
  <AppVersion>15.0000</AppVersion>
  <Words>730</Words>
  <Paragraphs>1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5T15:49:16Z</dcterms:created>
  <dc:creator>USER</dc:creator>
  <dc:description/>
  <dc:language>en-US</dc:language>
  <cp:lastModifiedBy>доу 14</cp:lastModifiedBy>
  <dcterms:modified xsi:type="dcterms:W3CDTF">2021-10-28T12:53:31Z</dcterms:modified>
  <cp:revision>58</cp:revision>
  <dc:subject/>
  <dc:title>Дистанционное обучение в ДО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8</vt:r8>
  </property>
</Properties>
</file>